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A74-29D3-45EA-BBC0-7D85E97E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5F4-6702-4509-8460-F6A8CE22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10585-DC3A-40EE-B313-89D0DBEC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4BC16-B620-4F12-80BC-C9B87BC0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58601-6A2B-44FC-A822-CE60EADF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C3C8B-0A70-4B71-AE02-3A53255D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6488C-0E43-4508-821C-727BE27D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7F93C-96B5-4FD3-A677-397811D0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5881B-F0E5-4FD0-AD34-CBE2B6F9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995DE-7D7F-47AE-81DD-2F875E39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762B3-6265-41BF-B4F2-E71E3319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33300-A76F-48C7-8B2F-6BA75CB1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11B-8A58-46EB-95BB-78BF84C6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BDCE4-EFE4-4EB5-BA5C-725BD150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6873F-DD2A-4C9B-9143-31814033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514FE-92C9-44B8-B079-34CE36BF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4C154-1D88-4E9D-B1AC-06BF5E6B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FD1EC-2D4F-4190-945B-A5911313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3BD73-8F5D-45CE-BCAC-1CE30B79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9DA6F-0185-422B-89CE-36C3078C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ED8FD-17D3-468D-A13D-6D757655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AEFC7-FEA1-4D2A-A724-A0A98432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351C1-7B4C-4CA3-82CC-0634F05D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BA9-780E-4430-BED7-CD4F515E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EC8F6-DD10-4057-AFEB-C24E3C4D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356D9-46B2-492E-AC5F-230E2DDF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54BD8-5362-4B11-BBAA-86BE8E03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E984F-0713-4957-AFD8-033A7ED6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C46C1-8081-49FD-AF16-7560E0F7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D816F-4F4F-4B98-A1AC-97DECDCC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04E61-E44A-4EE8-B059-2E0E39D8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44110-FBAF-4CE6-9F7F-DD0F0476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B8644-7690-4D13-9553-E5E392FE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B9C38-E1E9-467C-914D-A0810396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CD35-CCE4-4D93-9298-AC24E5F2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7F959-820B-4C8E-84DE-10B981E7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72D07-56D4-4243-8C29-55D6B0AE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D5F05-69A0-4416-8A98-8923379D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99FBF-3230-4328-B057-66452F4E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24C0F-F476-40A7-8B9D-0C9ED069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84FAD-79D0-400B-A884-8399742B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99008-8B4A-45E7-96A0-1067A64E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BB355-E52E-4211-B23C-D0538755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CF7BA-24F6-4B9A-9A76-8E4A89EA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B6913-B1E8-4136-9BCA-CC99388F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CF59-B64B-4FF3-ACFD-27FBC544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D04B6-67BE-4388-A02E-D0F119E2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C2661-A7DF-4209-900E-A5875A6C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51A27-30C9-4852-973E-7227D3FE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17401-B1CB-4BF8-A981-ABA8E02C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254EC-A972-4968-8C65-E2F2A9C5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D25EA-629D-4E31-B4F5-2784DA04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46F3F-8440-488E-B572-8C2774C3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D09D2-3160-4BA2-BD15-42C6A0F1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92727-3DE8-456C-9923-B59823B4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30CF3-9B71-4FD3-9FDC-A1CCAC8A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8B91-7A94-4E2D-9F4F-960ED5B9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76789-50FA-4FBB-8E04-EE8497C8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918AD-D0E2-414C-804C-89B6D664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A9C05-43FC-473A-982D-1B75BD88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C7C3A-2A66-4121-9A93-1FC3C496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6887F-0C11-4DBC-B9F1-D90AD13C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72F92-62B5-43C5-A483-19D50BCB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E86EC-CD66-42DE-ADCD-B6278931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BEBE61-A4AE-4548-A2C5-DE8C47F3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929DA8-95BC-4F82-A288-E4E7168F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03082-EFDE-4EF0-89E0-806A675A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EB92-8911-4B97-A781-CCC628D5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8B0C2-507C-43A2-8803-5F5D93F6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74E0BC-E43E-4129-8611-5AC37599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07D48-CC94-4C8D-AF74-D6AD3FF5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9DB16-9A51-4566-8DD2-2FFB3AC9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80A8B-BCFD-4DA7-8AC2-B2658D54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CA245-F8ED-42C2-B60B-EA7BBE54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3C29A-758E-4E51-B8CE-A245B3F3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41CA60-1A6B-449D-8650-5054052B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034B0-9D68-43EB-BC8B-5BDF00B2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F9139-0EE3-4CC5-8B2B-09A6CA6E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BAAA-501F-4AC4-880E-7F550D9E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0F85FA-AAC3-4437-BBB9-43A71821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56B727-BEE1-4C67-82F4-725029A8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6F53D0-5D64-4D00-B252-2293A5A0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0FEAE9-DADD-4281-AD47-F7140730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54B96-396B-478D-88EC-13F049E7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F8A39A-138F-4981-AA1F-71870785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433E2-58EC-4901-8033-3E340BE1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8983D-11E5-455C-AE09-55F91856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E153E2-EEFD-494D-B254-EF59CE34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80E22-20F1-4B01-A907-5B6E3696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8EA1-B143-4E9A-803F-C3B99675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0D76B-565D-42A6-860C-4EB981B2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567512-A163-4CA4-B9ED-CC60DE9B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562241-041C-4B54-AF13-C56BD987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3CC486-8C54-4AE0-A271-A594CE91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24431E-2391-457E-8878-ACF185FC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9DAB0-86E4-4E89-8C28-6D0939D2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366424-DF95-485E-B3F0-0928D549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2693D-A4CD-4791-9FD1-AF87C6FB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E2460-F426-4A49-8240-18E2223E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CFDBC6-0D9B-4EE1-8EBA-5167B104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BF21-598F-45A8-BE31-617F679E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52DB6E-A904-4D38-89ED-7AC1648F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C29153-0CCF-4386-979F-59142A73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29FFA-38BC-466A-88C9-24327192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840C37-B014-4E54-8D54-B5ED3D61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2D11C3-1C93-4F52-8428-C3609F68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4D321-A68C-432A-99C3-80DC2A50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6559D4-76A2-43BE-9F5A-C4CE6CC0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F079F7-BEC5-4D13-A35A-6A6191D8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A3044D-7B82-46F0-AC80-986A8E55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4D158B-4BC3-438D-B994-980061D8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1DE-7591-40A3-A021-164BCC20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DB60-84A8-4898-A91B-5C16D559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2A769-E481-496C-9CFF-AE9DBB99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EC613-3B22-49ED-9C6D-61CD7E7F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A618D4-147D-4358-ADB1-FCE4058E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81903B-CC33-4F25-8388-5D031169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823A73-CE2E-45F9-924A-DE1D712D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C95A87-0F2B-4809-B49F-C67D06BD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099EEE-4673-4F05-9BD5-9FFD00AD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9FA87E-CB70-41F7-8E8C-2C7C6A51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E85F7-1670-47F0-A9F8-0A1D1B58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3848EA-66AA-4CB8-961D-196BA9FB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A1B5-D811-4708-83C1-D28597F3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A9DD6-6F13-461C-AFD8-5AA3AB05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FB117-F630-4A05-8A1C-4B65008B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0C2AEE-A6A6-4D3A-99C9-637DD3B0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755222-6897-4525-BA3A-997B48A4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372D6-A1E7-45C0-9554-2483539E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6D8573-8F87-44D2-9AF1-5CA83A96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8C8DBF-1879-4329-876C-F333419F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A91E6A-D416-4500-8405-1521678D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7692E1-BBB0-487D-AFF7-7F05DE1D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384689-0750-4AE3-BF3B-54507D5C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7565-8C0A-47AF-A599-E900C859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8CBAA4-314E-4674-850B-600A8680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7A033-D645-4CF2-AF8D-4C5FD34D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135E39-5551-4148-B873-EB54A99A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21EE96-5849-4453-A944-16D8903C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00187C-0C91-4866-AE4D-E5FC7917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3A1B9A-83ED-40BD-ABE1-65DE6EDE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C358D0-1CDD-493D-9E3A-08DDDEA1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CDDAE-AA46-4443-966A-A06A366D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09C7FE-E1A2-45E9-9C04-D129EA92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460F6-A900-4792-AFBC-B9E6C9EE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5E9C-02A5-4F06-9883-39784182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482070-84C7-4709-8611-826889DE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09D642-5F9F-442E-830C-DB616051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54457F-273C-4DBA-A8DF-68AC14EE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EDA1EB-0739-410A-A68A-49462C1D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4AB196-167F-419F-85F2-CE5161CD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F41400-1277-416B-9EB5-4D82FCBA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0C6E7C-E27C-4927-B22E-3DCBA663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0DF4B0-B1C4-4936-88FD-0250FAE6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ECDA13-B069-453C-B8A5-8B602A66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5CC340-81CF-435F-9584-2E4473E6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C682-ABD6-46CF-9101-D7111EA8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AF67A8-A2F7-4683-805A-5769FD56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F3D831-2821-4F74-ACFE-76E80FCB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B6D19F-C06F-4CAC-8EAD-33F18AA5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AAA2ED-8E06-403F-990A-9CB07F15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799E95-19EF-449E-A00D-122B0E56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6031D3-69F5-4D53-BD39-6AD833F5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79109E-BE73-46EA-AAC5-0DDFD20E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3B7B27-74B9-4DA8-8AB4-1BB9AEC9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088830-3F22-4DF4-9C0E-795F3EC6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A62095-E8E9-44A4-B211-A7F51BFF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418F-FE16-4E13-948B-B9B11724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ECF5BD-A5AB-4FF9-93C7-D18F807C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A9D268-12DC-4286-BA73-D6C72D9D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00CA71-5F2D-416F-8E72-CD203D8C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FAA9C-06F4-4111-8475-5AC4DC82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CC72-D7E6-49A7-BB99-E2144882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8CC37-5B3D-4D31-8542-8DD9B804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362BC-B0A4-4A39-AC9F-54346D34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BD7-7043-4AB8-B2FE-70DCA27C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3B334-9F3D-4358-B7D3-FCA098D4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DBD5D-0BFA-4904-9323-DF49D5B3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1B1B6-C82A-4AE1-925A-501E8189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87BD8-DAC1-499F-9541-D19551BF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9C33A-D103-4B09-BD19-C3C3F683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AC828-32B4-488C-BBE0-50579EA2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5181E-6DB0-493A-A52E-2213605D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852D-C7FA-4008-96E0-022813DB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D5F14-895F-4FF6-B13C-C89B21DE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2F756-D2AF-498B-BF28-A2ACBB45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D47-ED77-4B26-A4B3-A721F0E8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9E083-2751-4F7D-9410-278C3585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BC855-E433-4CDF-90AC-6B823A3B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5E49E-AB85-4FDB-9173-7FDDB90E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FC948-37C2-4171-BE51-5005E7EB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9635A-5B47-485B-B1B9-680D822E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3367C-3BC1-4CFE-B651-FDA52F6F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55F37-7768-465B-AFD8-C0B70EB0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B2CA1-9F1A-4AC0-8B05-50A5310C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4384-9222-4ED8-B5F4-2E92CED1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041EB-89CE-4A2D-BD91-1642A0D5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F10-A258-49D5-8AF3-34E997B7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F4FA0-2847-46E0-9DFC-6E3E88F7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511BA-9C77-4290-BF9C-2C8B75EE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26A36-A580-4E32-9DCB-12B02546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24082-D273-4CBC-AC33-49DFCF7B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0107C-5548-4336-96ED-E0CD30F6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A271F-4A3B-4110-9179-995B20B0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01169-6E11-4C2B-A58B-803E7A7A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47317-5FBD-45C4-84F1-C0ABCD9F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7B5BE-9833-4A28-B310-C5315D16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FAD6C-7CE4-490B-A9DA-138DA719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251-03AF-4D32-BA43-1C493B6E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87329-E533-4691-8087-D60FAC64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7A0D9-CBD8-4651-8AAF-BFBD718F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9BA96-1324-4AEE-9D93-184E0694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17198-B56D-45E9-AF75-3CAB6FE4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29230-1B75-4D71-9506-655A736A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22B85-8EC5-426E-8441-B0F14001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4E7A5-16F3-4E6A-A21E-ABB243FF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63846-F0F2-4221-AC14-A38179FA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8B1E9-F299-4EE8-BD2C-69CF8092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E6D7D-DACA-403A-9757-F2DD0B37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F33-92CD-4B2D-A0B5-697797D9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C509F-B08E-41B4-87B2-1F5D0338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441E1-7036-4692-98CB-61F7612B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BAB2E-E919-4436-8F8A-FB8519DF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C9290-2A8C-4BA9-A873-3CCAAA20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86905-2D70-4212-946D-6C427CDF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6F5E6-5588-4A8C-A5BA-FBAD4967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697AE-48C0-48EA-B5B6-664C550E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CAF18-FF2F-4CC2-BCFA-971A75FA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8F56C-FD6C-4697-A7AE-CB9BF907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C8E63-6441-44E5-80ED-E0E9DEA3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6A1-EAD0-4579-9DBE-0BCF2A38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05C36-35F4-4C20-A69A-2612ED79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9AE73-ECDF-41EB-9EC9-34CA6CF9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C4205-C80B-4A5D-84E0-096D4E9E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D92C9-73BA-4034-B317-C4BE1AEF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4B837-FF5F-4B44-AF46-ECF45584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FFA2D-AC38-4C92-8F5A-A485CB93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AC053-2FE6-4C83-B0F8-C3BF5A2D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F01C2-CD4E-4283-AB6F-29D5F7B1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4F06B-F0AF-4B6F-915C-B52F17CD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5A2E3-5EFC-401C-B8E7-9F7035DA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C96-5B98-469A-BEB5-B99268E7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A9D44-DBEF-45AA-A855-8B1BDF07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4818C-0D18-40E3-B0D5-AA61E822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CB0C0-E5F2-4CC3-A4F8-62E9FA22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6596D-B85C-4E34-B893-7948E5ED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927D3-F490-4800-B3DD-BFD15E38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65228-4C06-4623-B1B9-BE7F1870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F8BC9-A9D7-4E5D-9425-07031E44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A4F32-2A82-41B4-B8F0-604F5D08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6DA91-15F5-4354-90DA-CF9FDB3C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11DFD-E90A-488F-8331-49F1F249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CBCD-527C-446F-BACB-7CE7EF9832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4194-881E-4DED-BB01-559AA8E863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891F-E5A8-41DB-A0D9-EB4EB71B81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3E8F-0E48-4D64-997A-E47D784127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BF48-8890-47B7-9BD5-D6A816C16F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1ED4-9EC7-42F2-975F-72DB3BB387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1A65-4FA3-47CE-8824-A09FEF2069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8555-93D0-4B00-B3DA-C2A9CE8476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1E41-913C-4F11-9B8D-3C46FEA4A3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D99E-5380-4232-8A9D-4DBA8892C9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917C-D392-4F12-8E3C-EF07BD4056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A235-AE23-4328-9BEC-75E332BC23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0E9F-1963-4AE9-93BB-EDA5DC19C8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A331-36B5-4C46-B8C2-7CBD2FC9FB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3F0A-EE69-46CB-A88C-1BA4FA9534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2CE4-474F-40D9-A367-04448F3A72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80BD-1D5D-4069-9E27-682463767D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8368-F012-4083-AC65-7F8E710A44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C7D1-E5DE-4729-A27E-A1A52D30E1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42C8-91FA-4FB2-B6E6-349AE8276F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8100-7136-4F4C-AD3C-3910F92EE9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A3D6-7862-4B48-A50E-F3667FE48B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A677-A9B0-4B36-B967-D83B538477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81D1-97E3-4F01-AFF5-E7FA9B64EB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E135-5056-4630-A723-04E8D387EC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7DFF-A132-4560-B6B9-6F15248812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8E1B-50D9-4E27-8B99-25A5AB47E0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AF7E-BF35-4E05-8E79-F7B0CADC70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BE85-8948-4C76-BB3B-B9911B4006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7CB9-15BD-4872-A1A0-D51DDBA915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0B67-CD77-4E64-86B6-EAEFDBDFB2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744B-8CD2-4BFA-BD61-F919F79CA5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A2E9-134A-43D8-8F9A-940E720C06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D84F-951F-4F9F-BC57-A5D4984E62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CB11-687D-4173-A95D-CF13392B92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0877-F8B9-425C-A77B-FF17999870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2D71-6892-4A15-98C4-9C820442D9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5284-E25B-4E7C-BE70-3A648FD4DB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C33E-2414-44A2-8D89-07377769E3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CE40-F0D6-49B0-AC12-7E0BB7674B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90520" y="3000240"/>
            <a:ext cx="67629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2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715080" cy="195264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52233" descr=""/>
          <p:cNvPicPr/>
          <p:nvPr/>
        </p:nvPicPr>
        <p:blipFill>
          <a:blip r:embed="rId2"/>
          <a:stretch/>
        </p:blipFill>
        <p:spPr>
          <a:xfrm>
            <a:off x="216000" y="4257720"/>
            <a:ext cx="8820000" cy="1258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4716360" y="17589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7466040" y="170028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4657680" y="249228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7466040" y="249228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1735200" y="4221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4427640" y="42354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7885080" y="42354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1692360" y="49417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4629240" y="49417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8416800" y="4941720"/>
            <a:ext cx="64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4920" y="695160"/>
            <a:ext cx="8534160" cy="54676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732720" y="31845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659640" y="39481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689880" y="466740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435640" y="5603760"/>
            <a:ext cx="8650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604800" y="200160"/>
            <a:ext cx="7934400" cy="64576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3851280" y="410544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2843280" y="6006960"/>
            <a:ext cx="9367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76801" descr=""/>
          <p:cNvPicPr/>
          <p:nvPr/>
        </p:nvPicPr>
        <p:blipFill>
          <a:blip r:embed="rId1"/>
          <a:stretch/>
        </p:blipFill>
        <p:spPr>
          <a:xfrm>
            <a:off x="638280" y="2052720"/>
            <a:ext cx="7867440" cy="2752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3924360" y="27813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3967200" y="4278240"/>
            <a:ext cx="647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290520" y="1109520"/>
            <a:ext cx="8562960" cy="463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7885080" y="27813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7885080" y="350028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7885080" y="4221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7885080" y="5013360"/>
            <a:ext cx="647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480960" y="1571760"/>
            <a:ext cx="8182080" cy="3714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5076720" y="2909880"/>
            <a:ext cx="3598920" cy="506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4859280" y="3716280"/>
            <a:ext cx="3598920" cy="506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4788000" y="4451400"/>
            <a:ext cx="35989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6324" descr=""/>
          <p:cNvPicPr/>
          <p:nvPr/>
        </p:nvPicPr>
        <p:blipFill>
          <a:blip r:embed="rId1"/>
          <a:stretch/>
        </p:blipFill>
        <p:spPr>
          <a:xfrm>
            <a:off x="700200" y="1171440"/>
            <a:ext cx="7743600" cy="45151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032360" cy="506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4572000" y="2060640"/>
            <a:ext cx="4032360" cy="5065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4802040" y="2852640"/>
            <a:ext cx="4032360" cy="506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4932360" y="3645000"/>
            <a:ext cx="4032360" cy="5061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4716360" y="4379760"/>
            <a:ext cx="4032360" cy="506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4643280" y="5172120"/>
            <a:ext cx="40323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5300" descr=""/>
          <p:cNvPicPr/>
          <p:nvPr/>
        </p:nvPicPr>
        <p:blipFill>
          <a:blip r:embed="rId1"/>
          <a:stretch/>
        </p:blipFill>
        <p:spPr>
          <a:xfrm>
            <a:off x="271440" y="566640"/>
            <a:ext cx="8601120" cy="57247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4249800" cy="506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826920" y="4508640"/>
            <a:ext cx="424980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4276" descr=""/>
          <p:cNvPicPr/>
          <p:nvPr/>
        </p:nvPicPr>
        <p:blipFill>
          <a:blip r:embed="rId1"/>
          <a:stretch/>
        </p:blipFill>
        <p:spPr>
          <a:xfrm>
            <a:off x="214200" y="1052640"/>
            <a:ext cx="8715600" cy="47527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755640" y="2765520"/>
            <a:ext cx="3960720" cy="5061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826920" y="3529080"/>
            <a:ext cx="3961080" cy="506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496872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43:18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